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04ED-D711-4DB5-BACD-8A04CFB9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8FCE-5CC2-4C95-9508-5F276961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2208-68C6-4F81-82E5-B4FB5D23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4CD1-808D-43CE-99E5-42976989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E714-4927-4516-B761-54EA7784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8D27-0F2D-4CC0-9471-26444E48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6418-750E-42A0-B4C1-621C5961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7C35-9E86-4BBB-8BD5-1B1F44B3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A935-1B45-473D-812C-E4FA61FD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C7CD-B805-4F85-A586-7F9722FE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F0F7-59C0-415F-96AA-132049C3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8188-5971-4B23-B812-225B1CE4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BDF9-0577-4D78-9359-9337D9C0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5562-CFCA-4CE0-8AB4-3F21049B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04E1-FAC8-4C3F-8D6E-BE3714B0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7E13-FE35-4910-B355-CC7CE40A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C1FC-1AFE-4ABD-89C8-0D39590D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E7ED-C460-4181-8731-540F0B68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9428A-2F41-4B79-AB65-71DC022B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B1984-68AE-45B9-AF1E-68C466A8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92847-A765-448C-8DF1-864A0B4A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BF8F-5D9F-4576-A8A2-7ED5C733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5F491-9FFF-4E66-849A-D3C7D4D2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87CEB-D0D7-4145-BFA1-8A29E954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0090E-DBA2-43E5-8C1B-E1F32B64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22489-22B3-4900-A715-7931D04B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448C4-6B78-409E-816D-79B3E5F8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9EDE8-FAB5-4570-A8F0-F9DD7E42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1F164-237E-4BE8-BA24-01A3AA7B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C1A04-EE83-46D8-9D91-6D01E036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46391-C6C9-4BAE-8D8A-DA350C61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DF2DF-1301-47D6-A84B-67C87AA0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B6F9-91F4-469B-AC02-3E2ABC42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3AE12-4343-4F07-BD12-F27656D3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843E3-498A-40F2-9CA0-3FBF754C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3D680-AB19-45AE-B58B-338EA29F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4F72A-D130-4762-88BC-0C434CA4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2B766-09DD-47B3-BA6A-B85E06FA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E5CF1-21DF-4F88-9AB8-2D2D8801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B24C1-974F-4A07-BFB4-1BA43FD3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15F7E-EE72-44A4-84E2-2CE487E7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52691-7051-4889-BDF8-6313F618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1FFB4-7019-4505-B3E7-4E0FF320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7151-0DA5-4E39-889A-6A6F72D8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99842-E993-4CC2-89F1-0396E5E1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4D1D-C9BE-4A3E-9222-AA21DE17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1E70-8396-4F1D-B5E3-033DBA33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9410-9A9C-45BE-8BA8-171AF293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3D7E9-AA3E-4AA8-A57C-5C907F9B046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Text Box 10"/>
          <p:cNvSpPr/>
          <p:nvPr/>
        </p:nvSpPr>
        <p:spPr>
          <a:xfrm>
            <a:off x="6823080" y="6453360"/>
            <a:ext cx="1227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8891EC45-C5FD-4399-9565-A2BD70ED7BC8}" type="slidenum">
              <a:rPr b="0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" name="Picture 7" descr="Black logo_060212"/>
          <p:cNvPicPr/>
          <p:nvPr/>
        </p:nvPicPr>
        <p:blipFill>
          <a:blip r:embed="rId2"/>
          <a:stretch/>
        </p:blipFill>
        <p:spPr>
          <a:xfrm>
            <a:off x="8204040" y="6005520"/>
            <a:ext cx="60012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1a534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61a53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823080" y="6453360"/>
            <a:ext cx="1227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C506C7F8-9897-41D7-8B88-A17CFD9F4BC1}" type="slidenum">
              <a:rPr b="0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7" name="Picture 7" descr="Black logo_060212"/>
          <p:cNvPicPr/>
          <p:nvPr/>
        </p:nvPicPr>
        <p:blipFill>
          <a:blip r:embed="rId2"/>
          <a:stretch/>
        </p:blipFill>
        <p:spPr>
          <a:xfrm>
            <a:off x="8204040" y="6005520"/>
            <a:ext cx="60012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9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5" name="Straight Connector 20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6" name="Straight Connector 21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105" name="Picture 15" descr="OX_VL_W.eps"/>
          <p:cNvPicPr/>
          <p:nvPr/>
        </p:nvPicPr>
        <p:blipFill>
          <a:blip r:embed="rId2"/>
          <a:stretch/>
        </p:blipFill>
        <p:spPr>
          <a:xfrm>
            <a:off x="7918560" y="5502240"/>
            <a:ext cx="919080" cy="1028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0F9E0-D6E3-457C-9D91-206A4A254BE7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4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9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0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1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2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3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4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5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6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7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58" name="Text Box 10"/>
          <p:cNvSpPr/>
          <p:nvPr/>
        </p:nvSpPr>
        <p:spPr>
          <a:xfrm>
            <a:off x="6823080" y="6453360"/>
            <a:ext cx="1227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CE144D1D-0D91-4CD7-B04A-2C8089228AE8}" type="slidenum">
              <a:rPr b="0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9" name="Picture 7" descr="Black logo_060212"/>
          <p:cNvPicPr/>
          <p:nvPr/>
        </p:nvPicPr>
        <p:blipFill>
          <a:blip r:embed="rId2"/>
          <a:stretch/>
        </p:blipFill>
        <p:spPr>
          <a:xfrm>
            <a:off x="8204040" y="6005520"/>
            <a:ext cx="600120" cy="665280"/>
          </a:xfrm>
          <a:prstGeom prst="rect">
            <a:avLst/>
          </a:prstGeom>
          <a:ln w="0">
            <a:noFill/>
          </a:ln>
        </p:spPr>
      </p:pic>
      <p:sp>
        <p:nvSpPr>
          <p:cNvPr id="160" name="TextBox 19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TextBox 20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510B99-5361-4F3B-93F8-4D6490857E83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14" name="Text Box 10"/>
          <p:cNvSpPr/>
          <p:nvPr/>
        </p:nvSpPr>
        <p:spPr>
          <a:xfrm>
            <a:off x="6823080" y="6453360"/>
            <a:ext cx="1227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33529C4A-63D2-4CDA-A470-F0A4CAC12EFD}" type="slidenum">
              <a:rPr b="0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Picture 7" descr="Black logo_060212"/>
          <p:cNvPicPr/>
          <p:nvPr/>
        </p:nvPicPr>
        <p:blipFill>
          <a:blip r:embed="rId2"/>
          <a:stretch/>
        </p:blipFill>
        <p:spPr>
          <a:xfrm>
            <a:off x="8204040" y="6005520"/>
            <a:ext cx="600120" cy="6652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9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TextBox 20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FC18E9-4888-4477-8070-4541F3F324D2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15" descr="OX_VL_W.eps"/>
          <p:cNvPicPr/>
          <p:nvPr/>
        </p:nvPicPr>
        <p:blipFill>
          <a:blip r:embed="rId3"/>
          <a:stretch/>
        </p:blipFill>
        <p:spPr>
          <a:xfrm>
            <a:off x="7918560" y="5502240"/>
            <a:ext cx="919080" cy="10288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1a534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61a53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4920" y="2852640"/>
            <a:ext cx="846612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01f1e"/>
                </a:solidFill>
                <a:latin typeface="Century Gothic"/>
              </a:rPr>
              <a:t>Role of NGOs in supporting governments in disaster risk reduction and preparedness for climate-related displacement: example of NGO-government collaboration in Southern Africa</a:t>
            </a:r>
            <a:endParaRPr b="1" lang="en-US" sz="2400" spc="-1" strike="noStrike">
              <a:solidFill>
                <a:srgbClr val="61a534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4356000" y="5675400"/>
            <a:ext cx="30384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90c226"/>
                </a:solidFill>
                <a:latin typeface="Trebuchet MS"/>
                <a:ea typeface="MS PGothic"/>
              </a:rPr>
              <a:t> </a:t>
            </a:r>
            <a:r>
              <a:rPr b="0" lang="en-GB" sz="3600" spc="-1" strike="noStrike">
                <a:solidFill>
                  <a:srgbClr val="90c226"/>
                </a:solidFill>
                <a:latin typeface="Candara Light"/>
                <a:ea typeface="MS PGothic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24000" y="609120"/>
            <a:ext cx="822960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201f1e"/>
                </a:solidFill>
                <a:latin typeface="Century Gothic"/>
                <a:ea typeface="MS PGothic"/>
              </a:rPr>
              <a:t>   </a:t>
            </a:r>
            <a:r>
              <a:rPr b="1" lang="es-ES" sz="1800" spc="-1" strike="noStrike">
                <a:solidFill>
                  <a:srgbClr val="201f1e"/>
                </a:solidFill>
                <a:latin typeface="Century Gothic"/>
                <a:ea typeface="MS PGothic"/>
              </a:rPr>
              <a:t>Memorandum of Understanding wit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201f1e"/>
                </a:solidFill>
                <a:latin typeface="Century Gothic"/>
                <a:ea typeface="MS PGothic"/>
              </a:rPr>
              <a:t>-SA National Departement of Cooperative Governance </a:t>
            </a:r>
            <a:r>
              <a:rPr b="1" lang="es-ES" sz="1800" spc="-1" strike="noStrike">
                <a:solidFill>
                  <a:srgbClr val="201f1e"/>
                </a:solidFill>
                <a:latin typeface="Century Gothic"/>
                <a:ea typeface="MS PGothic"/>
              </a:rPr>
              <a:t>(CoGTA)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201f1e"/>
                </a:solidFill>
                <a:latin typeface="Century Gothic"/>
                <a:ea typeface="MS PGothic"/>
              </a:rPr>
              <a:t>-</a:t>
            </a:r>
            <a:r>
              <a:rPr b="1" lang="es-ES" sz="1800" spc="-1" strike="noStrike">
                <a:solidFill>
                  <a:srgbClr val="ff0000"/>
                </a:solidFill>
                <a:latin typeface="Century Gothic"/>
                <a:ea typeface="MS PGothic"/>
              </a:rPr>
              <a:t>Mozambique INGD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201f1e"/>
                </a:solidFill>
                <a:latin typeface="Century Gothic"/>
                <a:ea typeface="MS PGothic"/>
              </a:rPr>
              <a:t>-Malawi  DoDMA(in proces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Century Gothic"/>
                <a:ea typeface="MS PGothic"/>
              </a:rPr>
              <a:t> </a:t>
            </a:r>
            <a:r>
              <a:rPr b="0" lang="es-ES" sz="1800" spc="-1" strike="noStrike">
                <a:solidFill>
                  <a:srgbClr val="ff0000"/>
                </a:solidFill>
                <a:latin typeface="Century Gothic"/>
                <a:ea typeface="MS PGothic"/>
              </a:rPr>
              <a:t>Technical suppor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 u="sng">
                <a:solidFill>
                  <a:srgbClr val="201f1e"/>
                </a:solidFill>
                <a:uFillTx/>
                <a:latin typeface="Century Gothic"/>
                <a:ea typeface="MS PGothic"/>
              </a:rPr>
              <a:t> </a:t>
            </a:r>
            <a:r>
              <a:rPr b="1" lang="es-ES" sz="1800" spc="-1" strike="noStrike" u="sng">
                <a:solidFill>
                  <a:srgbClr val="201f1e"/>
                </a:solidFill>
                <a:uFillTx/>
                <a:latin typeface="Century Gothic"/>
                <a:ea typeface="MS PGothic"/>
              </a:rPr>
              <a:t>-</a:t>
            </a:r>
            <a:r>
              <a:rPr b="0" lang="es-ES" sz="1800" spc="-1" strike="noStrike" u="sng">
                <a:solidFill>
                  <a:srgbClr val="201f1e"/>
                </a:solidFill>
                <a:uFillTx/>
                <a:latin typeface="Century Gothic"/>
                <a:ea typeface="MS PGothic"/>
              </a:rPr>
              <a:t>South Africa: </a:t>
            </a:r>
            <a:r>
              <a:rPr b="0" lang="es-ES" sz="1800" spc="-1" strike="noStrike">
                <a:solidFill>
                  <a:srgbClr val="201f1e"/>
                </a:solidFill>
                <a:latin typeface="Century Gothic"/>
                <a:ea typeface="MS PGothic"/>
              </a:rPr>
              <a:t>DRR operational guidelines with a focus on EWS and Disaster Displacement  (SA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 u="sng">
                <a:solidFill>
                  <a:srgbClr val="ff0000"/>
                </a:solidFill>
                <a:uFillTx/>
                <a:latin typeface="Century Gothic"/>
                <a:ea typeface="MS PGothic"/>
              </a:rPr>
              <a:t>-Mozambique: </a:t>
            </a:r>
            <a:r>
              <a:rPr b="0" lang="es-ES" sz="1800" spc="-1" strike="noStrike">
                <a:solidFill>
                  <a:srgbClr val="ff0000"/>
                </a:solidFill>
                <a:latin typeface="Century Gothic"/>
                <a:ea typeface="MS PGothic"/>
              </a:rPr>
              <a:t>Policy and Strategy  on Disaster Displa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MS PGothic"/>
              </a:rPr>
              <a:t>cement and EW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 u="sng">
                <a:solidFill>
                  <a:srgbClr val="201f1e"/>
                </a:solidFill>
                <a:uFillTx/>
                <a:latin typeface="Century Gothic"/>
                <a:ea typeface="MS PGothic"/>
              </a:rPr>
              <a:t>  </a:t>
            </a:r>
            <a:r>
              <a:rPr b="0" lang="es-ES" sz="1800" spc="-1" strike="noStrike" u="sng">
                <a:solidFill>
                  <a:srgbClr val="201f1e"/>
                </a:solidFill>
                <a:uFillTx/>
                <a:latin typeface="Century Gothic"/>
                <a:ea typeface="MS PGothic"/>
              </a:rPr>
              <a:t>-Malawi:</a:t>
            </a:r>
            <a:r>
              <a:rPr b="0" lang="es-ES" sz="1800" spc="-1" strike="noStrike">
                <a:solidFill>
                  <a:srgbClr val="201f1e"/>
                </a:solidFill>
                <a:latin typeface="Century Gothic"/>
                <a:ea typeface="MS PGothic"/>
              </a:rPr>
              <a:t> Disaster Displacement guideline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609120" y="907560"/>
            <a:ext cx="720252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Inside the Building”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-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understanding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experiencing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 the risk governance system daily 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(vertical and horizontal coordination and integration for EWS and DD)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-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critical friend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win-win situation as an influencing tactic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-ensuring the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Government ownership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-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local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(Government) initiatives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shaping the national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legislation and discussion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609120" y="692280"/>
            <a:ext cx="6348600" cy="53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NGO Added Value”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Work on the ground and knowledge of communities’  dynamic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-     Participation to the national and international humanitarian agenda: bringing knowledg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598320" y="4941720"/>
            <a:ext cx="2249640" cy="16876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"/>
          <p:cNvPicPr/>
          <p:nvPr/>
        </p:nvPicPr>
        <p:blipFill>
          <a:blip r:embed="rId2"/>
          <a:stretch/>
        </p:blipFill>
        <p:spPr>
          <a:xfrm>
            <a:off x="5724360" y="5094360"/>
            <a:ext cx="2114640" cy="15350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"/>
          <p:cNvPicPr/>
          <p:nvPr/>
        </p:nvPicPr>
        <p:blipFill>
          <a:blip r:embed="rId3"/>
          <a:stretch/>
        </p:blipFill>
        <p:spPr>
          <a:xfrm>
            <a:off x="3151080" y="3868560"/>
            <a:ext cx="224964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4T14:40:36Z</dcterms:created>
  <dc:creator>Administrator</dc:creator>
  <dc:description/>
  <dc:language>en-US</dc:language>
  <cp:lastModifiedBy>Linh Nong</cp:lastModifiedBy>
  <dcterms:modified xsi:type="dcterms:W3CDTF">2021-09-29T09:55:25Z</dcterms:modified>
  <cp:revision>43</cp:revision>
  <dc:subject/>
  <dc:title>Headline goes here</dc:title>
</cp:coreProperties>
</file>